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1D9-907C-4110-9DAF-2ECBF7D9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40D-EF82-4596-885A-71CC658B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3B6-C26E-4490-9A8C-C80AD4DA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19F-3F4F-463E-9887-65B37264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5E0A2-0813-445E-AAF5-CC162CDF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2F3BC-EBB0-43FE-8E52-F9468330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CC1F2-5301-40DE-8BAC-7A831ADE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FC7E7-6022-4851-91C9-39939638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15725-4919-4BA5-8AE9-0FCF7D48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48208-DCD9-4D39-A4A3-5C1B9ACA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66AF1-D386-4663-AECC-6C62449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721-8F6B-4FDB-8C6A-9F18EE2C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45967-4637-422E-850D-549E01CE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E7479-31C5-494C-B30E-6EF0B1A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1DABC-C7B4-413A-B1C6-9FC6A1E9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0BD3C-63B6-4E79-833D-72962D59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6D0FF-EF13-4A87-9E4B-D398CC07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FC0-BD64-474D-92A9-84A355F1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0F4-027A-4EB6-9E2B-62435DF1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B0D-3792-4527-B677-36D73593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A25-40C0-476B-A109-54475654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7C7-191D-48B3-8F10-25694938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0E3-6903-41A9-80B5-EC642DC7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1B3-7390-43D3-BA18-2F73D184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33E3-6969-41E1-801B-982D0922EE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22A5-C82F-488F-AEF0-FDB8CE3CC5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Projeto de Ensino desenvolvido na E.E. Senador Filinto Muller-Extensã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277920"/>
            <a:ext cx="84978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Título do projeto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: Terra, Planeta Água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Professora coordenadora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Cinthya Maria Staut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Colaboração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Professor STE Claudemir e NTE Professora Carla Varela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Execução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: Professora Maria José, Izabel e Rose Mazzar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Componentes curriculares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Ciências Naturais / Meio Ambiente; Matemática; Língua Portuguesa e Artes.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Publico Alvo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: 6º Ano D do Ensino Fundamental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Turno: 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Vespertin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Monotype Corsiva"/>
              </a:rPr>
              <a:t>Período de realização:</a:t>
            </a: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 Setembro/ Novembro de 2009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Alunos confeccionando filtro para fazerem a experiê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41440" y="1973160"/>
            <a:ext cx="2916360" cy="198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430880" y="1973160"/>
            <a:ext cx="2911320" cy="198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440000" y="4025880"/>
            <a:ext cx="2917800" cy="1989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6784920" y="136044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427640" y="4005360"/>
            <a:ext cx="2952720" cy="2016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Os alunos estão realizando a experiência,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filtrando a águ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3600360" cy="2233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3457800" cy="244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26920" y="1484280"/>
            <a:ext cx="3384720" cy="2233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284720" y="3789360"/>
            <a:ext cx="3600360" cy="244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Alunos na STE fazendo pesquisa relacionada ao desenvolvimento do proje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291456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211640" y="1557360"/>
            <a:ext cx="302436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258920" y="3962520"/>
            <a:ext cx="2914560" cy="1984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213080" y="3962520"/>
            <a:ext cx="3022920" cy="196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516720" y="1557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8692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A realização do projeto alcançou os objetivos propostos, bem como a participação dos alunos durante o desenvolvimento das atividades, evidenciando a importância de se trabalhar de forma interdisciplin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7:26:51Z</dcterms:created>
  <dc:creator>Microsoft</dc:creator>
  <dc:description/>
  <dc:language>en-US</dc:language>
  <cp:lastModifiedBy>Microsoft</cp:lastModifiedBy>
  <dcterms:modified xsi:type="dcterms:W3CDTF">2009-12-09T18:53:05Z</dcterms:modified>
  <cp:revision>9</cp:revision>
  <dc:subject/>
  <dc:title>Projeto de Ensino desenvolvido na E.E.Senador Filinto Muller-Extensão</dc:title>
</cp:coreProperties>
</file>